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E4C-A608-423E-B078-03170314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0D1-C030-4BA8-897D-5C9663B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719-8BDE-46E1-892A-55571FF4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6B1-0CAA-46AE-958D-AA577303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1EE-1AEA-407C-9C33-23811A7D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6E7-FDFC-4DB4-913E-8F4ACF3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975-79E7-4AF8-9015-2525822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F30-70E6-4DEA-972F-FCFD0B68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7921-4C9A-4A53-A6FC-98E14FB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551-BD20-49B1-B15B-613CAF4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8E7-C785-4997-8FCE-B0D06ACD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492-E319-4EF6-A620-B818D13C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4301-CA6F-48C2-B563-46EDE39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31D8-4CD1-4459-B3B3-2923EF1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9D1D-274A-4858-AE09-9104DC0C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2282-22A4-4F13-8F2C-6EA26189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676-5ADC-44DB-BF6B-4F6CE782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4A0-AF29-4C2E-A92D-98044CD1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817-CE8A-4080-866B-BF888D3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35F-9757-439B-A6A0-06323B54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7D2-C900-4C3C-A4A6-77D1B3B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5D4-C4F5-4336-A793-F097C63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69F-D8C5-4DA6-8257-75C188B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F4F-5444-4FBC-999A-BABD738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E6DB-B623-4BE2-9A48-39F188E3291B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d1e8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A313-11AF-4449-95FA-E67A6C7D539A}" type="slidenum">
              <a:rPr b="0" lang="ro-RO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uri web de colaborare onlin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ce mi-ar fi ut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are fis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entar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660760"/>
                <a:gridCol w="252108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 pentru schimb de informatii,opinii intre autor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citito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 aplicat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ot culege informatii si posta comentari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reflecti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e se poate folo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Eu</cp:lastModifiedBy>
  <dcterms:modified xsi:type="dcterms:W3CDTF">2010-12-05T18:46:51Z</dcterms:modified>
  <cp:revision>7</cp:revision>
  <dc:subject/>
  <dc:title>Compuşi hidroxilici</dc:title>
</cp:coreProperties>
</file>